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26DEF-B773-47E7-8292-9669A54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22FEB-B964-43A4-97EC-82455EEF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B446-DEA6-434A-9481-E8556B3F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1C9D-D7E6-40AC-8692-3B155E8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9666-B480-4970-80A4-471E45C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D770-417C-41C8-A884-64FC69D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0A2A-56D4-4522-8B68-17B39DEA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0F3D-649B-436C-8663-C56E7D71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E578-CCEC-41E6-855A-584886E6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FD04-BC24-42E5-BEFB-AF51C01A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1C2A-7CAD-4FE2-9788-921BEF47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7D377-5DED-4854-9099-CB69C15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147D-77CA-4EAE-9FAE-3D7AD81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9F15-53FF-4CAF-B99A-1313049A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65FD-4863-4EB9-B189-3F282DE1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6DDF-B61E-4585-AA65-AC8C7252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0010-8EA3-4C02-BC52-AEFF0B2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10F8-C30C-4A60-87DC-40D2AAA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1E79-051E-4434-8890-C5F11D06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F193-8E70-4265-8757-D132377E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C3A18-94C4-4374-9A0A-5E7EB58F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177D7-621E-4735-BA6E-5198B31A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6DFF4-D68D-41E6-919E-67D0FEFD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DCC0-7FFB-4162-BCE9-20CBA0F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1FD7-1A90-45B6-8D3B-072F0344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A807A-4C69-40AD-8C60-9A39E3A2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9523-36A9-4E97-8FF0-32AA11F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F545-0CA0-498C-B220-7ECBA8A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7D03A-53D4-4D0E-9A94-9F5618A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60981-42FB-47F9-9235-8A91967A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8281-370D-476E-90D2-08A24C62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5A728-D66F-4700-AC29-B23FDA44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7A4A-DDB4-4A3E-BD4A-5F19CF2C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AC86B-2177-495F-94DB-386E2DA8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2824B-7F1F-408A-ADC2-42117BD6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7E76A-8F59-4D5B-8479-8F103252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87680-5157-45C6-80C9-00DEAFA3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819D-8BA6-4AE6-BDA6-69F32FF6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57B2C-0BE6-4DA1-9ED3-F802968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C05F-4114-431E-8F2D-4DF63E0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5A1D0-36DB-4E3A-9D8E-E991C3E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ADED6-CCEA-465B-AF89-5DC6E404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E1C6-E09C-4EC1-BF3F-683BFF2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DC247-4E1D-41C8-8836-C466B900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E248B-AC13-43BC-8DB8-9238A208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EBF3A-3CF5-4963-8D31-17823095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F3092-DD7B-46CA-898A-3423063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E2162-13AD-4A33-8D10-F701595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D779C-BD40-4CF6-9F8F-54820DC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CBCF1-2798-4C86-A641-A1FB71E2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B6791-8E71-4B89-AB18-FDC45E8A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77026-22D4-4445-87F5-90E7F60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7E42C-F567-415A-8352-66D0DA01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3E44E-E2FC-4BA7-8053-F0A46821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3E788-B95F-4129-9D1D-931810BA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17A7B-5F9E-435B-95E7-2405A24E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EE3E3-5BE2-4329-9CA3-87F9748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71E30-E299-4B20-BCC0-B60035FD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73CAD-AD9B-4906-9D5F-C0EF473B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D83C3-916D-451A-BCC7-F4273A23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4300F-952E-48B0-81A4-A19F8EA5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48899-088D-494A-9DC6-EBF1225B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F6CA5-2380-4C77-9B1A-75F447C4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21D16-A29D-4C7C-85CD-64E16145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112ED-32AC-4788-90AF-2592F7BD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E74BE-3591-4A9A-B204-7BA86EB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C9307-653E-42B5-BC71-0853C784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6375B-D978-4317-8181-09E78607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FB4EC-EB0C-40A6-839C-8615D1FF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97304-7190-487D-BD61-23EB6116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CAD6D-5C95-4EEA-82FB-BA178C8B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D9626-1870-4C08-9F2F-84FFDB1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D964-3C50-4744-917D-6203DF4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DB744-554C-4F3D-AEA1-3CFCDDE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346CA-D1F6-4C23-ACD0-6490E465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AC0F2-260C-4D26-B047-9BB677FB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08930-658A-4500-A777-1E1170D8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A468F-8D0C-4B8C-B4B9-0AC3EE3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F56D6-7C7F-4CFA-83CA-231134AF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34233-C427-4E55-A994-7E222C5B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C206D-7BD7-4C94-9421-F5A843D2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E0831-387B-4D33-B494-F9B2E5E7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28998-3D15-4A23-B465-2B3AB7D2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394D9-3E7E-4D9E-B50F-75E41197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06135-ADB0-4871-9510-E370517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F5ED6-CD49-454A-B0C9-6E45B392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1E254-865D-4D3E-93C9-65C6309A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C663D-BE18-47EE-8320-5880729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C293D-71F1-4102-BAF2-D083C46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D73DF-93DB-41DB-8478-EDC8EC7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53812-AFA4-461A-BBF5-F0C6D9E2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88C4A-086A-4B65-9E77-62BFF904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5E3D1-5503-46CE-8DBB-50B423B8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995-776E-4E15-928D-9E3150BF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3D0-273E-4828-958A-32B61786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0C7-F6FB-4A4E-83C9-58DC58F1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0F5-F5CB-466B-B957-8DE0262F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C56-3188-42C4-85E5-F9D8EC9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836-7488-468A-9112-45A0C7F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677-7428-4A3F-BD2E-0F026BA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76B-C325-4DC6-9DD6-0A22D74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D5A-F404-4406-9B74-83753F4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184-E000-4CCE-BE20-B1830A4A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CF5-3517-423B-8C69-D4CB9D5A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987-FADA-49D6-B64E-454DDA33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A7A4-6039-498E-9338-FFEDB8B2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4752-211D-4EC6-BD20-CBBE00B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E095-3070-481D-8694-D5831854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B352-BBC5-4072-9976-6A09B1FA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2D96-6AB0-4574-8E0A-017F3B6F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0C14-F8F1-4199-BB92-F0F91622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B640-76A6-4962-B25F-B1CA950C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C0C9-870D-425B-856E-F0AF502F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AF25-CA3A-4855-BBE2-78829BC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D8D6-F847-48F6-B68E-7CC61ED8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ED5A-905D-42CE-87D0-56DCCC5C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2E42-EC28-4958-BC24-1F91A2D0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C350-CCF6-466F-95D8-00235DC8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3197-2454-4283-8E9D-AAD81F97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EB54-71DB-4EEE-B633-1B445C73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E790-7220-4A2B-980B-2FD83911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A8F5-DFFC-4452-A74B-D4C4910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1807-411C-4F7B-90D3-3462E7E0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AD9B-F66D-4FED-BF14-5E0A0CA2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3A05-F984-4AA2-8ECF-E751305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CF02-7290-49C3-A1EA-2C6F7F5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50DC-86F3-4F98-8629-2DB6D70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A5F7-86B2-4EC5-9AE9-6A0D660D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A852-3C55-48EA-8F3F-84F4199E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5370-0D70-4E33-8BE9-A656F7F0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3768-58B3-45FB-B2C5-4B1E64D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56F2-12C1-4489-AF07-CCBCDAD0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1FB6-1706-4763-A64B-17AFB886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0F54-1357-4389-A8CA-E587D6A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A8C3-7FF6-4BAA-8FA9-272AD484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1521-3F38-420C-9AB6-E702FB3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300E-E0AC-4A1B-AE28-0ECA79F9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941A-0C99-40BC-B163-E88B73D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DF7EA-6177-40A6-AEA0-42F2ED43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DA6B-19D6-445E-89A0-286CDFDA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7374-7A25-40A7-A0F4-75BF9576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FADA-9B33-4F6F-9DAF-CE70C3E0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9610-9796-4819-9B2D-EC5272F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D0DED-D8EC-4251-A7EC-93319EEA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0B9-98AE-4AF2-AB17-F9383323A8B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B81-0C62-4FF7-A797-937D96F54F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17B-775B-428D-B729-ED53507E2A6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32A-D22D-44A1-AE56-D61798E12EC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53E4-8CE8-4E2B-A3C7-58CC7D4B442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9C11-7E93-49A3-A868-0B7EB0606D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0DC8-37C0-4884-B502-4DB53AD6192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31745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31746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74" name="椭圆 31747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31748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31749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1750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1751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173-94F0-4634-BFA4-A6C81D50C5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32769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93" name="椭圆 32770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32771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32772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32773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32774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32775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DBC0-1A7C-4B13-8B0C-B5B1FAC1014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5857-3607-4165-A5ED-DF336E268BB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C8B-8E66-4565-897D-581FA8C116A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006B-D13B-4255-83DB-A096114A2F1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标题 1"/>
          <p:cNvSpPr/>
          <p:nvPr/>
        </p:nvSpPr>
        <p:spPr>
          <a:xfrm>
            <a:off x="1990800" y="94932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图片 1" descr=""/>
          <p:cNvPicPr/>
          <p:nvPr/>
        </p:nvPicPr>
        <p:blipFill>
          <a:blip r:embed="rId1"/>
          <a:stretch/>
        </p:blipFill>
        <p:spPr>
          <a:xfrm>
            <a:off x="322200" y="309600"/>
            <a:ext cx="2454480" cy="4968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4"/>
          <p:cNvGrpSpPr/>
          <p:nvPr/>
        </p:nvGrpSpPr>
        <p:grpSpPr>
          <a:xfrm>
            <a:off x="384120" y="944640"/>
            <a:ext cx="8018640" cy="648360"/>
            <a:chOff x="384120" y="944640"/>
            <a:chExt cx="8018640" cy="648360"/>
          </a:xfrm>
        </p:grpSpPr>
        <p:pic>
          <p:nvPicPr>
            <p:cNvPr id="691" name="图片 2" descr=""/>
            <p:cNvPicPr/>
            <p:nvPr/>
          </p:nvPicPr>
          <p:blipFill>
            <a:blip r:embed="rId2"/>
            <a:stretch/>
          </p:blipFill>
          <p:spPr>
            <a:xfrm>
              <a:off x="384120" y="1068840"/>
              <a:ext cx="35028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矩形 3"/>
            <p:cNvSpPr/>
            <p:nvPr/>
          </p:nvSpPr>
          <p:spPr>
            <a:xfrm>
              <a:off x="734400" y="944640"/>
              <a:ext cx="76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猜猜下面词语的读音，再选择合适的放在句子里读一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7"/>
          <p:cNvSpPr/>
          <p:nvPr/>
        </p:nvSpPr>
        <p:spPr>
          <a:xfrm>
            <a:off x="800280" y="2081160"/>
            <a:ext cx="753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啪      唰      吱呀        嗡嗡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嘟嘟嘟  咚咚咚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哗啦哗啦    叽叽喳喳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组合 6"/>
          <p:cNvGrpSpPr/>
          <p:nvPr/>
        </p:nvGrpSpPr>
        <p:grpSpPr>
          <a:xfrm>
            <a:off x="985680" y="216000"/>
            <a:ext cx="6383520" cy="2236680"/>
            <a:chOff x="985680" y="216000"/>
            <a:chExt cx="6383520" cy="2236680"/>
          </a:xfrm>
        </p:grpSpPr>
        <p:pic>
          <p:nvPicPr>
            <p:cNvPr id="695" name="Picture 2" descr="http://pic8.nipic.com/20100728/5410988_223926041084_2.jpg"/>
            <p:cNvPicPr/>
            <p:nvPr/>
          </p:nvPicPr>
          <p:blipFill>
            <a:blip r:embed="rId1"/>
            <a:srcRect l="18506" t="19257" r="48175" b="11224"/>
            <a:stretch/>
          </p:blipFill>
          <p:spPr>
            <a:xfrm>
              <a:off x="985680" y="527400"/>
              <a:ext cx="1265040" cy="19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圆角矩形标注 3"/>
            <p:cNvSpPr/>
            <p:nvPr/>
          </p:nvSpPr>
          <p:spPr>
            <a:xfrm>
              <a:off x="2817720" y="216000"/>
              <a:ext cx="4394520" cy="1744560"/>
            </a:xfrm>
            <a:prstGeom prst="wedgeRoundRectCallout">
              <a:avLst>
                <a:gd name="adj1" fmla="val -61879"/>
                <a:gd name="adj2" fmla="val 18509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4"/>
            <p:cNvSpPr/>
            <p:nvPr/>
          </p:nvSpPr>
          <p:spPr>
            <a:xfrm>
              <a:off x="2949480" y="299880"/>
              <a:ext cx="4419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我发现这些词语都是表示声音的词语，都是带有“口”字旁的形声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矩形 7"/>
          <p:cNvSpPr/>
          <p:nvPr/>
        </p:nvSpPr>
        <p:spPr>
          <a:xfrm>
            <a:off x="685800" y="2460600"/>
            <a:ext cx="811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家都睡着了，突然响起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敲门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雨不停地下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9"/>
          <p:cNvSpPr/>
          <p:nvPr/>
        </p:nvSpPr>
        <p:spPr>
          <a:xfrm>
            <a:off x="1382760" y="3419640"/>
            <a:ext cx="17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哗啦哗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0"/>
          <p:cNvSpPr/>
          <p:nvPr/>
        </p:nvSpPr>
        <p:spPr>
          <a:xfrm>
            <a:off x="5237280" y="2543040"/>
            <a:ext cx="1412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咚咚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1" descr=""/>
          <p:cNvPicPr/>
          <p:nvPr/>
        </p:nvPicPr>
        <p:blipFill>
          <a:blip r:embed="rId1"/>
          <a:stretch/>
        </p:blipFill>
        <p:spPr>
          <a:xfrm>
            <a:off x="263520" y="361800"/>
            <a:ext cx="2004840" cy="482760"/>
          </a:xfrm>
          <a:prstGeom prst="rect">
            <a:avLst/>
          </a:prstGeom>
          <a:ln w="0">
            <a:noFill/>
          </a:ln>
        </p:spPr>
      </p:pic>
      <p:grpSp>
        <p:nvGrpSpPr>
          <p:cNvPr id="702" name="组合 79"/>
          <p:cNvGrpSpPr/>
          <p:nvPr/>
        </p:nvGrpSpPr>
        <p:grpSpPr>
          <a:xfrm>
            <a:off x="2819520" y="955800"/>
            <a:ext cx="3338280" cy="3378240"/>
            <a:chOff x="2819520" y="955800"/>
            <a:chExt cx="3338280" cy="3378240"/>
          </a:xfrm>
        </p:grpSpPr>
        <p:grpSp>
          <p:nvGrpSpPr>
            <p:cNvPr id="703" name="组合 7"/>
            <p:cNvGrpSpPr/>
            <p:nvPr/>
          </p:nvGrpSpPr>
          <p:grpSpPr>
            <a:xfrm>
              <a:off x="2819520" y="985680"/>
              <a:ext cx="836280" cy="851040"/>
              <a:chOff x="2819520" y="985680"/>
              <a:chExt cx="836280" cy="851040"/>
            </a:xfrm>
          </p:grpSpPr>
          <p:sp>
            <p:nvSpPr>
              <p:cNvPr id="704" name="矩形 1"/>
              <p:cNvSpPr/>
              <p:nvPr/>
            </p:nvSpPr>
            <p:spPr>
              <a:xfrm>
                <a:off x="281952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直接连接符 4"/>
              <p:cNvSpPr/>
              <p:nvPr/>
            </p:nvSpPr>
            <p:spPr>
              <a:xfrm>
                <a:off x="281952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直接连接符 6"/>
              <p:cNvSpPr/>
              <p:nvPr/>
            </p:nvSpPr>
            <p:spPr>
              <a:xfrm>
                <a:off x="323784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文本框 64"/>
            <p:cNvSpPr/>
            <p:nvPr/>
          </p:nvSpPr>
          <p:spPr>
            <a:xfrm>
              <a:off x="2833560" y="9558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7"/>
            <p:cNvGrpSpPr/>
            <p:nvPr/>
          </p:nvGrpSpPr>
          <p:grpSpPr>
            <a:xfrm>
              <a:off x="3654360" y="985680"/>
              <a:ext cx="836280" cy="851040"/>
              <a:chOff x="3654360" y="985680"/>
              <a:chExt cx="836280" cy="851040"/>
            </a:xfrm>
          </p:grpSpPr>
          <p:sp>
            <p:nvSpPr>
              <p:cNvPr id="709" name="矩形 1"/>
              <p:cNvSpPr/>
              <p:nvPr/>
            </p:nvSpPr>
            <p:spPr>
              <a:xfrm>
                <a:off x="365436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9"/>
              <p:cNvSpPr/>
              <p:nvPr/>
            </p:nvSpPr>
            <p:spPr>
              <a:xfrm>
                <a:off x="365436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6"/>
              <p:cNvSpPr/>
              <p:nvPr/>
            </p:nvSpPr>
            <p:spPr>
              <a:xfrm>
                <a:off x="407268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文本框 64"/>
            <p:cNvSpPr/>
            <p:nvPr/>
          </p:nvSpPr>
          <p:spPr>
            <a:xfrm>
              <a:off x="3668400" y="9558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2"/>
            <p:cNvGrpSpPr/>
            <p:nvPr/>
          </p:nvGrpSpPr>
          <p:grpSpPr>
            <a:xfrm>
              <a:off x="4486680" y="985680"/>
              <a:ext cx="836280" cy="851040"/>
              <a:chOff x="4486680" y="985680"/>
              <a:chExt cx="836280" cy="851040"/>
            </a:xfrm>
          </p:grpSpPr>
          <p:sp>
            <p:nvSpPr>
              <p:cNvPr id="714" name="矩形 1"/>
              <p:cNvSpPr/>
              <p:nvPr/>
            </p:nvSpPr>
            <p:spPr>
              <a:xfrm>
                <a:off x="448668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直接连接符 14"/>
              <p:cNvSpPr/>
              <p:nvPr/>
            </p:nvSpPr>
            <p:spPr>
              <a:xfrm>
                <a:off x="448668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直接连接符 6"/>
              <p:cNvSpPr/>
              <p:nvPr/>
            </p:nvSpPr>
            <p:spPr>
              <a:xfrm>
                <a:off x="490500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组合 16"/>
            <p:cNvGrpSpPr/>
            <p:nvPr/>
          </p:nvGrpSpPr>
          <p:grpSpPr>
            <a:xfrm>
              <a:off x="5321520" y="985680"/>
              <a:ext cx="836280" cy="851040"/>
              <a:chOff x="5321520" y="985680"/>
              <a:chExt cx="836280" cy="851040"/>
            </a:xfrm>
          </p:grpSpPr>
          <p:sp>
            <p:nvSpPr>
              <p:cNvPr id="718" name="矩形 1"/>
              <p:cNvSpPr/>
              <p:nvPr/>
            </p:nvSpPr>
            <p:spPr>
              <a:xfrm>
                <a:off x="532152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直接连接符 18"/>
              <p:cNvSpPr/>
              <p:nvPr/>
            </p:nvSpPr>
            <p:spPr>
              <a:xfrm>
                <a:off x="532152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直接连接符 6"/>
              <p:cNvSpPr/>
              <p:nvPr/>
            </p:nvSpPr>
            <p:spPr>
              <a:xfrm>
                <a:off x="573984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组合 7"/>
            <p:cNvGrpSpPr/>
            <p:nvPr/>
          </p:nvGrpSpPr>
          <p:grpSpPr>
            <a:xfrm>
              <a:off x="2819520" y="1818000"/>
              <a:ext cx="836280" cy="851040"/>
              <a:chOff x="2819520" y="1818000"/>
              <a:chExt cx="836280" cy="851040"/>
            </a:xfrm>
          </p:grpSpPr>
          <p:sp>
            <p:nvSpPr>
              <p:cNvPr id="722" name="矩形 1"/>
              <p:cNvSpPr/>
              <p:nvPr/>
            </p:nvSpPr>
            <p:spPr>
              <a:xfrm>
                <a:off x="281952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直接连接符 22"/>
              <p:cNvSpPr/>
              <p:nvPr/>
            </p:nvSpPr>
            <p:spPr>
              <a:xfrm>
                <a:off x="281952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直接连接符 6"/>
              <p:cNvSpPr/>
              <p:nvPr/>
            </p:nvSpPr>
            <p:spPr>
              <a:xfrm>
                <a:off x="323784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文本框 64"/>
            <p:cNvSpPr/>
            <p:nvPr/>
          </p:nvSpPr>
          <p:spPr>
            <a:xfrm>
              <a:off x="2833560" y="1787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组合 25"/>
            <p:cNvGrpSpPr/>
            <p:nvPr/>
          </p:nvGrpSpPr>
          <p:grpSpPr>
            <a:xfrm>
              <a:off x="3654360" y="1818000"/>
              <a:ext cx="836280" cy="851040"/>
              <a:chOff x="3654360" y="1818000"/>
              <a:chExt cx="836280" cy="851040"/>
            </a:xfrm>
          </p:grpSpPr>
          <p:sp>
            <p:nvSpPr>
              <p:cNvPr id="727" name="矩形 1"/>
              <p:cNvSpPr/>
              <p:nvPr/>
            </p:nvSpPr>
            <p:spPr>
              <a:xfrm>
                <a:off x="365436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直接连接符 27"/>
              <p:cNvSpPr/>
              <p:nvPr/>
            </p:nvSpPr>
            <p:spPr>
              <a:xfrm>
                <a:off x="365436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直接连接符 6"/>
              <p:cNvSpPr/>
              <p:nvPr/>
            </p:nvSpPr>
            <p:spPr>
              <a:xfrm>
                <a:off x="407268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文本框 64"/>
            <p:cNvSpPr/>
            <p:nvPr/>
          </p:nvSpPr>
          <p:spPr>
            <a:xfrm>
              <a:off x="3668400" y="1787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组合 30"/>
            <p:cNvGrpSpPr/>
            <p:nvPr/>
          </p:nvGrpSpPr>
          <p:grpSpPr>
            <a:xfrm>
              <a:off x="4486680" y="1818000"/>
              <a:ext cx="836280" cy="851040"/>
              <a:chOff x="4486680" y="1818000"/>
              <a:chExt cx="836280" cy="851040"/>
            </a:xfrm>
          </p:grpSpPr>
          <p:sp>
            <p:nvSpPr>
              <p:cNvPr id="732" name="矩形 1"/>
              <p:cNvSpPr/>
              <p:nvPr/>
            </p:nvSpPr>
            <p:spPr>
              <a:xfrm>
                <a:off x="448668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32"/>
              <p:cNvSpPr/>
              <p:nvPr/>
            </p:nvSpPr>
            <p:spPr>
              <a:xfrm>
                <a:off x="448668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6"/>
              <p:cNvSpPr/>
              <p:nvPr/>
            </p:nvSpPr>
            <p:spPr>
              <a:xfrm>
                <a:off x="490500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组合 34"/>
            <p:cNvGrpSpPr/>
            <p:nvPr/>
          </p:nvGrpSpPr>
          <p:grpSpPr>
            <a:xfrm>
              <a:off x="5321520" y="1818000"/>
              <a:ext cx="836280" cy="851040"/>
              <a:chOff x="5321520" y="1818000"/>
              <a:chExt cx="836280" cy="851040"/>
            </a:xfrm>
          </p:grpSpPr>
          <p:sp>
            <p:nvSpPr>
              <p:cNvPr id="736" name="矩形 1"/>
              <p:cNvSpPr/>
              <p:nvPr/>
            </p:nvSpPr>
            <p:spPr>
              <a:xfrm>
                <a:off x="532152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36"/>
              <p:cNvSpPr/>
              <p:nvPr/>
            </p:nvSpPr>
            <p:spPr>
              <a:xfrm>
                <a:off x="532152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直接连接符 6"/>
              <p:cNvSpPr/>
              <p:nvPr/>
            </p:nvSpPr>
            <p:spPr>
              <a:xfrm>
                <a:off x="573984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组合 7"/>
            <p:cNvGrpSpPr/>
            <p:nvPr/>
          </p:nvGrpSpPr>
          <p:grpSpPr>
            <a:xfrm>
              <a:off x="2819520" y="2652840"/>
              <a:ext cx="836280" cy="851040"/>
              <a:chOff x="2819520" y="2652840"/>
              <a:chExt cx="836280" cy="851040"/>
            </a:xfrm>
          </p:grpSpPr>
          <p:sp>
            <p:nvSpPr>
              <p:cNvPr id="740" name="矩形 1"/>
              <p:cNvSpPr/>
              <p:nvPr/>
            </p:nvSpPr>
            <p:spPr>
              <a:xfrm>
                <a:off x="281952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直接连接符 40"/>
              <p:cNvSpPr/>
              <p:nvPr/>
            </p:nvSpPr>
            <p:spPr>
              <a:xfrm>
                <a:off x="281952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6"/>
              <p:cNvSpPr/>
              <p:nvPr/>
            </p:nvSpPr>
            <p:spPr>
              <a:xfrm>
                <a:off x="323784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文本框 64"/>
            <p:cNvSpPr/>
            <p:nvPr/>
          </p:nvSpPr>
          <p:spPr>
            <a:xfrm>
              <a:off x="2833560" y="26226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组合 43"/>
            <p:cNvGrpSpPr/>
            <p:nvPr/>
          </p:nvGrpSpPr>
          <p:grpSpPr>
            <a:xfrm>
              <a:off x="3654360" y="2652840"/>
              <a:ext cx="836280" cy="851040"/>
              <a:chOff x="3654360" y="2652840"/>
              <a:chExt cx="836280" cy="851040"/>
            </a:xfrm>
          </p:grpSpPr>
          <p:sp>
            <p:nvSpPr>
              <p:cNvPr id="745" name="矩形 1"/>
              <p:cNvSpPr/>
              <p:nvPr/>
            </p:nvSpPr>
            <p:spPr>
              <a:xfrm>
                <a:off x="365436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直接连接符 45"/>
              <p:cNvSpPr/>
              <p:nvPr/>
            </p:nvSpPr>
            <p:spPr>
              <a:xfrm>
                <a:off x="365436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直接连接符 6"/>
              <p:cNvSpPr/>
              <p:nvPr/>
            </p:nvSpPr>
            <p:spPr>
              <a:xfrm>
                <a:off x="407268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文本框 64"/>
            <p:cNvSpPr/>
            <p:nvPr/>
          </p:nvSpPr>
          <p:spPr>
            <a:xfrm>
              <a:off x="3668400" y="26226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组合 48"/>
            <p:cNvGrpSpPr/>
            <p:nvPr/>
          </p:nvGrpSpPr>
          <p:grpSpPr>
            <a:xfrm>
              <a:off x="4486680" y="2652840"/>
              <a:ext cx="836280" cy="851040"/>
              <a:chOff x="4486680" y="2652840"/>
              <a:chExt cx="836280" cy="851040"/>
            </a:xfrm>
          </p:grpSpPr>
          <p:sp>
            <p:nvSpPr>
              <p:cNvPr id="750" name="矩形 1"/>
              <p:cNvSpPr/>
              <p:nvPr/>
            </p:nvSpPr>
            <p:spPr>
              <a:xfrm>
                <a:off x="448668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直接连接符 50"/>
              <p:cNvSpPr/>
              <p:nvPr/>
            </p:nvSpPr>
            <p:spPr>
              <a:xfrm>
                <a:off x="448668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直接连接符 6"/>
              <p:cNvSpPr/>
              <p:nvPr/>
            </p:nvSpPr>
            <p:spPr>
              <a:xfrm>
                <a:off x="490500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组合 52"/>
            <p:cNvGrpSpPr/>
            <p:nvPr/>
          </p:nvGrpSpPr>
          <p:grpSpPr>
            <a:xfrm>
              <a:off x="5321520" y="2652840"/>
              <a:ext cx="836280" cy="851040"/>
              <a:chOff x="5321520" y="2652840"/>
              <a:chExt cx="836280" cy="851040"/>
            </a:xfrm>
          </p:grpSpPr>
          <p:sp>
            <p:nvSpPr>
              <p:cNvPr id="754" name="矩形 1"/>
              <p:cNvSpPr/>
              <p:nvPr/>
            </p:nvSpPr>
            <p:spPr>
              <a:xfrm>
                <a:off x="532152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直接连接符 54"/>
              <p:cNvSpPr/>
              <p:nvPr/>
            </p:nvSpPr>
            <p:spPr>
              <a:xfrm>
                <a:off x="532152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6"/>
              <p:cNvSpPr/>
              <p:nvPr/>
            </p:nvSpPr>
            <p:spPr>
              <a:xfrm>
                <a:off x="573984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组合 7"/>
            <p:cNvGrpSpPr/>
            <p:nvPr/>
          </p:nvGrpSpPr>
          <p:grpSpPr>
            <a:xfrm>
              <a:off x="2819520" y="3483000"/>
              <a:ext cx="836280" cy="851040"/>
              <a:chOff x="2819520" y="3483000"/>
              <a:chExt cx="836280" cy="851040"/>
            </a:xfrm>
          </p:grpSpPr>
          <p:sp>
            <p:nvSpPr>
              <p:cNvPr id="758" name="矩形 1"/>
              <p:cNvSpPr/>
              <p:nvPr/>
            </p:nvSpPr>
            <p:spPr>
              <a:xfrm>
                <a:off x="281952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58"/>
              <p:cNvSpPr/>
              <p:nvPr/>
            </p:nvSpPr>
            <p:spPr>
              <a:xfrm>
                <a:off x="281952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6"/>
              <p:cNvSpPr/>
              <p:nvPr/>
            </p:nvSpPr>
            <p:spPr>
              <a:xfrm>
                <a:off x="323784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文本框 64"/>
            <p:cNvSpPr/>
            <p:nvPr/>
          </p:nvSpPr>
          <p:spPr>
            <a:xfrm>
              <a:off x="2833560" y="3452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组合 61"/>
            <p:cNvGrpSpPr/>
            <p:nvPr/>
          </p:nvGrpSpPr>
          <p:grpSpPr>
            <a:xfrm>
              <a:off x="3654360" y="3483000"/>
              <a:ext cx="836280" cy="851040"/>
              <a:chOff x="3654360" y="3483000"/>
              <a:chExt cx="836280" cy="851040"/>
            </a:xfrm>
          </p:grpSpPr>
          <p:sp>
            <p:nvSpPr>
              <p:cNvPr id="763" name="矩形 1"/>
              <p:cNvSpPr/>
              <p:nvPr/>
            </p:nvSpPr>
            <p:spPr>
              <a:xfrm>
                <a:off x="365436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63"/>
              <p:cNvSpPr/>
              <p:nvPr/>
            </p:nvSpPr>
            <p:spPr>
              <a:xfrm>
                <a:off x="365436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直接连接符 6"/>
              <p:cNvSpPr/>
              <p:nvPr/>
            </p:nvSpPr>
            <p:spPr>
              <a:xfrm>
                <a:off x="407268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文本框 64"/>
            <p:cNvSpPr/>
            <p:nvPr/>
          </p:nvSpPr>
          <p:spPr>
            <a:xfrm>
              <a:off x="3668400" y="3452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组合 66"/>
            <p:cNvGrpSpPr/>
            <p:nvPr/>
          </p:nvGrpSpPr>
          <p:grpSpPr>
            <a:xfrm>
              <a:off x="4486680" y="3483000"/>
              <a:ext cx="836280" cy="851040"/>
              <a:chOff x="4486680" y="3483000"/>
              <a:chExt cx="836280" cy="851040"/>
            </a:xfrm>
          </p:grpSpPr>
          <p:sp>
            <p:nvSpPr>
              <p:cNvPr id="768" name="矩形 1"/>
              <p:cNvSpPr/>
              <p:nvPr/>
            </p:nvSpPr>
            <p:spPr>
              <a:xfrm>
                <a:off x="448668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直接连接符 68"/>
              <p:cNvSpPr/>
              <p:nvPr/>
            </p:nvSpPr>
            <p:spPr>
              <a:xfrm>
                <a:off x="448668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直接连接符 6"/>
              <p:cNvSpPr/>
              <p:nvPr/>
            </p:nvSpPr>
            <p:spPr>
              <a:xfrm>
                <a:off x="490500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70"/>
            <p:cNvGrpSpPr/>
            <p:nvPr/>
          </p:nvGrpSpPr>
          <p:grpSpPr>
            <a:xfrm>
              <a:off x="5321520" y="3483000"/>
              <a:ext cx="836280" cy="851040"/>
              <a:chOff x="5321520" y="3483000"/>
              <a:chExt cx="836280" cy="851040"/>
            </a:xfrm>
          </p:grpSpPr>
          <p:sp>
            <p:nvSpPr>
              <p:cNvPr id="772" name="矩形 1"/>
              <p:cNvSpPr/>
              <p:nvPr/>
            </p:nvSpPr>
            <p:spPr>
              <a:xfrm>
                <a:off x="532152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直接连接符 72"/>
              <p:cNvSpPr/>
              <p:nvPr/>
            </p:nvSpPr>
            <p:spPr>
              <a:xfrm>
                <a:off x="532152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6"/>
              <p:cNvSpPr/>
              <p:nvPr/>
            </p:nvSpPr>
            <p:spPr>
              <a:xfrm>
                <a:off x="573984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5" name="组合 77"/>
          <p:cNvGrpSpPr/>
          <p:nvPr/>
        </p:nvGrpSpPr>
        <p:grpSpPr>
          <a:xfrm>
            <a:off x="58680" y="2502000"/>
            <a:ext cx="2693880" cy="1984320"/>
            <a:chOff x="58680" y="2502000"/>
            <a:chExt cx="2693880" cy="1984320"/>
          </a:xfrm>
        </p:grpSpPr>
        <p:sp>
          <p:nvSpPr>
            <p:cNvPr id="776" name="云形标注 74"/>
            <p:cNvSpPr/>
            <p:nvPr/>
          </p:nvSpPr>
          <p:spPr>
            <a:xfrm>
              <a:off x="58680" y="2502000"/>
              <a:ext cx="2693880" cy="1984320"/>
            </a:xfrm>
            <a:prstGeom prst="cloudCallout">
              <a:avLst>
                <a:gd name="adj1" fmla="val 68643"/>
                <a:gd name="adj2" fmla="val -78189"/>
              </a:avLst>
            </a:prstGeom>
            <a:solidFill>
              <a:srgbClr val="ffffff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76"/>
            <p:cNvSpPr/>
            <p:nvPr/>
          </p:nvSpPr>
          <p:spPr>
            <a:xfrm>
              <a:off x="366840" y="2737440"/>
              <a:ext cx="230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的字左右两边宽窄大致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组合 80"/>
          <p:cNvGrpSpPr/>
          <p:nvPr/>
        </p:nvGrpSpPr>
        <p:grpSpPr>
          <a:xfrm>
            <a:off x="6238800" y="1057320"/>
            <a:ext cx="2905200" cy="2200320"/>
            <a:chOff x="6238800" y="1057320"/>
            <a:chExt cx="2905200" cy="2200320"/>
          </a:xfrm>
        </p:grpSpPr>
        <p:sp>
          <p:nvSpPr>
            <p:cNvPr id="779" name="云形标注 75"/>
            <p:cNvSpPr/>
            <p:nvPr/>
          </p:nvSpPr>
          <p:spPr>
            <a:xfrm>
              <a:off x="6238800" y="1057320"/>
              <a:ext cx="2905200" cy="2200320"/>
            </a:xfrm>
            <a:prstGeom prst="cloudCallout">
              <a:avLst>
                <a:gd name="adj1" fmla="val -95925"/>
                <a:gd name="adj2" fmla="val 39824"/>
              </a:avLst>
            </a:prstGeom>
            <a:solidFill>
              <a:srgbClr val="ffffff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矩形 78"/>
            <p:cNvSpPr/>
            <p:nvPr/>
          </p:nvSpPr>
          <p:spPr>
            <a:xfrm>
              <a:off x="6574320" y="1246320"/>
              <a:ext cx="254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看后写，才能减少修改次数，保持页面整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圆角矩形 12"/>
          <p:cNvSpPr/>
          <p:nvPr/>
        </p:nvSpPr>
        <p:spPr>
          <a:xfrm>
            <a:off x="5985000" y="1292400"/>
            <a:ext cx="2666880" cy="316368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163680"/>
              <a:gd name="textAreaBottom" fmla="*/ 3033720 h 3163680"/>
            </a:gdLst>
            <a:ahLst/>
            <a:rect l="textAreaLeft" t="textAreaTop" r="textAreaRight" b="textAreaBottom"/>
            <a:pathLst>
              <a:path w="21600" h="25623">
                <a:moveTo>
                  <a:pt x="3600" y="0"/>
                </a:moveTo>
                <a:arcTo wR="3600" hR="3600" stAng="16200000" swAng="-5400000"/>
                <a:lnTo>
                  <a:pt x="0" y="22023"/>
                </a:lnTo>
                <a:arcTo wR="3600" hR="3600" stAng="10800000" swAng="-5400000"/>
                <a:lnTo>
                  <a:pt x="18000" y="2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圆角矩形 10"/>
          <p:cNvSpPr/>
          <p:nvPr/>
        </p:nvSpPr>
        <p:spPr>
          <a:xfrm>
            <a:off x="3166920" y="1292400"/>
            <a:ext cx="2665440" cy="316368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3680"/>
              <a:gd name="textAreaBottom" fmla="*/ 3033720 h 3163680"/>
            </a:gdLst>
            <a:ahLst/>
            <a:rect l="textAreaLeft" t="textAreaTop" r="textAreaRight" b="textAreaBottom"/>
            <a:pathLst>
              <a:path w="21600" h="25637">
                <a:moveTo>
                  <a:pt x="3600" y="0"/>
                </a:moveTo>
                <a:arcTo wR="3600" hR="3600" stAng="16200000" swAng="-5400000"/>
                <a:lnTo>
                  <a:pt x="0" y="22037"/>
                </a:lnTo>
                <a:arcTo wR="3600" hR="3600" stAng="10800000" swAng="-5400000"/>
                <a:lnTo>
                  <a:pt x="18000" y="25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648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1"/>
          <p:cNvSpPr/>
          <p:nvPr/>
        </p:nvSpPr>
        <p:spPr>
          <a:xfrm>
            <a:off x="366840" y="1292400"/>
            <a:ext cx="2666880" cy="316368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163680"/>
              <a:gd name="textAreaBottom" fmla="*/ 3033720 h 3163680"/>
            </a:gdLst>
            <a:ahLst/>
            <a:rect l="textAreaLeft" t="textAreaTop" r="textAreaRight" b="textAreaBottom"/>
            <a:pathLst>
              <a:path w="21600" h="25623">
                <a:moveTo>
                  <a:pt x="3600" y="0"/>
                </a:moveTo>
                <a:arcTo wR="3600" hR="3600" stAng="16200000" swAng="-5400000"/>
                <a:lnTo>
                  <a:pt x="0" y="22023"/>
                </a:lnTo>
                <a:arcTo wR="3600" hR="3600" stAng="10800000" swAng="-5400000"/>
                <a:lnTo>
                  <a:pt x="18000" y="2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2" descr=""/>
          <p:cNvPicPr/>
          <p:nvPr/>
        </p:nvPicPr>
        <p:blipFill>
          <a:blip r:embed="rId1"/>
          <a:stretch/>
        </p:blipFill>
        <p:spPr>
          <a:xfrm>
            <a:off x="366840" y="376200"/>
            <a:ext cx="2388960" cy="585720"/>
          </a:xfrm>
          <a:prstGeom prst="rect">
            <a:avLst/>
          </a:prstGeom>
          <a:ln w="0">
            <a:noFill/>
          </a:ln>
        </p:spPr>
      </p:pic>
      <p:sp>
        <p:nvSpPr>
          <p:cNvPr id="785" name="矩形 4"/>
          <p:cNvSpPr/>
          <p:nvPr/>
        </p:nvSpPr>
        <p:spPr>
          <a:xfrm>
            <a:off x="747720" y="1693800"/>
            <a:ext cx="793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狼吞虎咽  惊弓之鸟  胆小如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龙飞凤舞  漏网之鱼  如虎添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鸡鸣狗吠  害群之马  如鱼得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5"/>
          <p:cNvSpPr/>
          <p:nvPr/>
        </p:nvSpPr>
        <p:spPr>
          <a:xfrm>
            <a:off x="660240" y="1414440"/>
            <a:ext cx="78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lá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tūn hǔ  y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n    jī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ō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zhī niǎo    dǎn xiǎo rú sh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6"/>
          <p:cNvSpPr/>
          <p:nvPr/>
        </p:nvSpPr>
        <p:spPr>
          <a:xfrm>
            <a:off x="595440" y="2395440"/>
            <a:ext cx="77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ló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fēi fè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wǔ      lòu wǎ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zhī yú      rú  hǔ tiān y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787320" y="3382920"/>
            <a:ext cx="78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jī mí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ǒu fèi     hài qún zhī  mǎ       rú  yú  dé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13"/>
          <p:cNvGrpSpPr/>
          <p:nvPr/>
        </p:nvGrpSpPr>
        <p:grpSpPr>
          <a:xfrm>
            <a:off x="2887560" y="122400"/>
            <a:ext cx="4049640" cy="1170000"/>
            <a:chOff x="2887560" y="122400"/>
            <a:chExt cx="4049640" cy="1170000"/>
          </a:xfrm>
        </p:grpSpPr>
        <p:sp>
          <p:nvSpPr>
            <p:cNvPr id="790" name="圆角矩形标注 11"/>
            <p:cNvSpPr/>
            <p:nvPr/>
          </p:nvSpPr>
          <p:spPr>
            <a:xfrm>
              <a:off x="2887560" y="122400"/>
              <a:ext cx="4049640" cy="1170000"/>
            </a:xfrm>
            <a:prstGeom prst="wedgeRoundRectCallout">
              <a:avLst>
                <a:gd name="adj1" fmla="val 28199"/>
                <a:gd name="adj2" fmla="val 82087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c2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矩形 12"/>
            <p:cNvSpPr/>
            <p:nvPr/>
          </p:nvSpPr>
          <p:spPr>
            <a:xfrm>
              <a:off x="2949480" y="131760"/>
              <a:ext cx="37929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这三组成语都是带有动物名称的四字成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1"/>
          <p:cNvSpPr/>
          <p:nvPr/>
        </p:nvSpPr>
        <p:spPr>
          <a:xfrm>
            <a:off x="420840" y="846000"/>
            <a:ext cx="8486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狼吞虎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形容吃东西又猛又急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龙飞凤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形容山势的蜿蜒雄壮，后也形容书法笔势有力，灵活舒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鸡鸣狗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鸡啼狗叫彼此都听得到，比喻聚居在一处的人口稠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矩形 1"/>
          <p:cNvSpPr/>
          <p:nvPr/>
        </p:nvSpPr>
        <p:spPr>
          <a:xfrm>
            <a:off x="588960" y="685800"/>
            <a:ext cx="801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惊弓之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被弓箭吓怕了的鸟，比喻受过惊吓的人碰到一点动静就非常害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漏网之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逃脱鱼网的鱼，比喻侥幸逃脱的罪犯或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害群之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危害马群的劣马，比喻危害社会或集体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矩形 1"/>
          <p:cNvSpPr/>
          <p:nvPr/>
        </p:nvSpPr>
        <p:spPr>
          <a:xfrm>
            <a:off x="581040" y="549360"/>
            <a:ext cx="82580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胆小如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胆子小得像老鼠，比喻十分胆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如虎添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好像老虎长上了翅膀，比喻强有力的人得到帮助变得更加强有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如鱼得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好像鱼遇到水一样，比喻遇到跟自己十分投合的人或对自己很合适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496800" y="355680"/>
            <a:ext cx="2216160" cy="519120"/>
          </a:xfrm>
          <a:prstGeom prst="rect">
            <a:avLst/>
          </a:prstGeom>
          <a:ln w="0">
            <a:noFill/>
          </a:ln>
        </p:spPr>
      </p:pic>
      <p:grpSp>
        <p:nvGrpSpPr>
          <p:cNvPr id="796" name="组合 5"/>
          <p:cNvGrpSpPr/>
          <p:nvPr/>
        </p:nvGrpSpPr>
        <p:grpSpPr>
          <a:xfrm>
            <a:off x="1736640" y="739800"/>
            <a:ext cx="5388120" cy="3924360"/>
            <a:chOff x="1736640" y="739800"/>
            <a:chExt cx="5388120" cy="3924360"/>
          </a:xfrm>
        </p:grpSpPr>
        <p:sp>
          <p:nvSpPr>
            <p:cNvPr id="797" name="矩形 2"/>
            <p:cNvSpPr/>
            <p:nvPr/>
          </p:nvSpPr>
          <p:spPr>
            <a:xfrm>
              <a:off x="1736640" y="739800"/>
              <a:ext cx="5388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称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原文略，见教材第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页）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8" name="图片 4" descr=""/>
            <p:cNvPicPr/>
            <p:nvPr/>
          </p:nvPicPr>
          <p:blipFill>
            <a:blip r:embed="rId2"/>
            <a:srcRect l="0" t="0" r="0" b="12586"/>
            <a:stretch/>
          </p:blipFill>
          <p:spPr>
            <a:xfrm>
              <a:off x="2803320" y="2319120"/>
              <a:ext cx="3576960" cy="234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784080" y="303120"/>
            <a:ext cx="2576520" cy="568440"/>
          </a:xfrm>
          <a:prstGeom prst="rect">
            <a:avLst/>
          </a:prstGeom>
          <a:ln w="0">
            <a:noFill/>
          </a:ln>
        </p:spPr>
      </p:pic>
      <p:sp>
        <p:nvSpPr>
          <p:cNvPr id="800" name="矩形 2"/>
          <p:cNvSpPr/>
          <p:nvPr/>
        </p:nvSpPr>
        <p:spPr>
          <a:xfrm>
            <a:off x="934920" y="988920"/>
            <a:ext cx="79059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粗糙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质料）不精细；不光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称赞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言语表达对人或事物的优点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自信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己相信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能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才能，会办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疲劳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体力或脑力消耗过多而需要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矩形 1"/>
          <p:cNvSpPr/>
          <p:nvPr/>
        </p:nvSpPr>
        <p:spPr>
          <a:xfrm>
            <a:off x="347760" y="689040"/>
            <a:ext cx="84423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称赞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这篇课文告诉了我们一个怎样的道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2"/>
          <p:cNvSpPr/>
          <p:nvPr/>
        </p:nvSpPr>
        <p:spPr>
          <a:xfrm>
            <a:off x="701640" y="1328760"/>
            <a:ext cx="799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称赞能给予我们神奇的力量，带给我们无尽的快乐。所以在生活中，我们要善于去发现别人身上的优点，给予周围人更多的称赞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C:\Users\Administrator\Desktop\识字加油站.tif"/>
          <p:cNvPicPr/>
          <p:nvPr/>
        </p:nvPicPr>
        <p:blipFill>
          <a:blip r:embed="rId1"/>
          <a:stretch/>
        </p:blipFill>
        <p:spPr>
          <a:xfrm>
            <a:off x="2090880" y="162000"/>
            <a:ext cx="2557440" cy="48564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0"/>
          <p:cNvSpPr/>
          <p:nvPr/>
        </p:nvSpPr>
        <p:spPr>
          <a:xfrm>
            <a:off x="3714840" y="1352520"/>
            <a:ext cx="4970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狼     猩猩    海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白鹤   鸽子    羚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蚯蚓   螃蟹    蝴蝶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蚕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0"/>
          <p:cNvSpPr/>
          <p:nvPr/>
        </p:nvSpPr>
        <p:spPr>
          <a:xfrm>
            <a:off x="546120" y="711360"/>
            <a:ext cx="7886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试着给下面的动物分类，看看谁的分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"/>
          <p:cNvPicPr/>
          <p:nvPr/>
        </p:nvPicPr>
        <p:blipFill>
          <a:blip r:embed="rId2"/>
          <a:stretch/>
        </p:blipFill>
        <p:spPr>
          <a:xfrm>
            <a:off x="71280" y="1222200"/>
            <a:ext cx="3648240" cy="35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656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Box 6"/>
          <p:cNvSpPr/>
          <p:nvPr/>
        </p:nvSpPr>
        <p:spPr>
          <a:xfrm>
            <a:off x="461880" y="18511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9"/>
          <p:cNvSpPr/>
          <p:nvPr/>
        </p:nvSpPr>
        <p:spPr>
          <a:xfrm>
            <a:off x="416520" y="131616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lá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4606920" y="18622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3"/>
          <p:cNvSpPr/>
          <p:nvPr/>
        </p:nvSpPr>
        <p:spPr>
          <a:xfrm>
            <a:off x="4633920" y="125748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xī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5" descr="http://pic2.ooopic.com/13/87/57/35b1OOOPIC77.jpg"/>
          <p:cNvPicPr/>
          <p:nvPr/>
        </p:nvPicPr>
        <p:blipFill>
          <a:blip r:embed="rId1"/>
          <a:stretch/>
        </p:blipFill>
        <p:spPr>
          <a:xfrm>
            <a:off x="2160720" y="1585800"/>
            <a:ext cx="1792080" cy="19764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7" descr="http://bpic.588ku.com/element_pic/16/11/23/825f6c2bf50afa57beece52cb8e17f0f.jpg"/>
          <p:cNvPicPr/>
          <p:nvPr/>
        </p:nvPicPr>
        <p:blipFill>
          <a:blip r:embed="rId2"/>
          <a:stretch/>
        </p:blipFill>
        <p:spPr>
          <a:xfrm>
            <a:off x="6049800" y="1384200"/>
            <a:ext cx="2613240" cy="26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6"/>
          <p:cNvSpPr/>
          <p:nvPr/>
        </p:nvSpPr>
        <p:spPr>
          <a:xfrm>
            <a:off x="1768320" y="1638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鹤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2"/>
          <p:cNvSpPr/>
          <p:nvPr/>
        </p:nvSpPr>
        <p:spPr>
          <a:xfrm>
            <a:off x="1971360" y="1123920"/>
            <a:ext cx="8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h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7" descr="http://www.jpcai.com/upfiles/photo/200606/20060624181014724.jpg"/>
          <p:cNvPicPr/>
          <p:nvPr/>
        </p:nvPicPr>
        <p:blipFill>
          <a:blip r:embed="rId1"/>
          <a:stretch/>
        </p:blipFill>
        <p:spPr>
          <a:xfrm>
            <a:off x="3510000" y="579600"/>
            <a:ext cx="2887560" cy="36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6"/>
          <p:cNvSpPr/>
          <p:nvPr/>
        </p:nvSpPr>
        <p:spPr>
          <a:xfrm>
            <a:off x="763560" y="199224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9"/>
          <p:cNvSpPr/>
          <p:nvPr/>
        </p:nvSpPr>
        <p:spPr>
          <a:xfrm>
            <a:off x="917640" y="13636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ɡ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6"/>
          <p:cNvSpPr/>
          <p:nvPr/>
        </p:nvSpPr>
        <p:spPr>
          <a:xfrm>
            <a:off x="4264200" y="200016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3"/>
          <p:cNvSpPr/>
          <p:nvPr/>
        </p:nvSpPr>
        <p:spPr>
          <a:xfrm>
            <a:off x="4348800" y="1371600"/>
            <a:ext cx="12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lí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8" descr="http://www.qqmofasi.com/data/attachments/2014/06/03/78_DER6kk4k6K8AI7TVp7a7_large.jpg"/>
          <p:cNvPicPr/>
          <p:nvPr/>
        </p:nvPicPr>
        <p:blipFill>
          <a:blip r:embed="rId1"/>
          <a:srcRect l="7074" t="0" r="26746" b="0"/>
          <a:stretch/>
        </p:blipFill>
        <p:spPr>
          <a:xfrm>
            <a:off x="2317680" y="1706400"/>
            <a:ext cx="1765440" cy="1600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"/>
          <p:cNvPicPr/>
          <p:nvPr/>
        </p:nvPicPr>
        <p:blipFill>
          <a:blip r:embed="rId2"/>
          <a:srcRect l="0" t="0" r="9102" b="0"/>
          <a:stretch/>
        </p:blipFill>
        <p:spPr>
          <a:xfrm>
            <a:off x="5850000" y="1463760"/>
            <a:ext cx="29192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6"/>
          <p:cNvSpPr/>
          <p:nvPr/>
        </p:nvSpPr>
        <p:spPr>
          <a:xfrm>
            <a:off x="865080" y="19432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2"/>
          <p:cNvSpPr/>
          <p:nvPr/>
        </p:nvSpPr>
        <p:spPr>
          <a:xfrm>
            <a:off x="933840" y="1366920"/>
            <a:ext cx="107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qi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2478240" y="194328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6"/>
          <p:cNvSpPr/>
          <p:nvPr/>
        </p:nvSpPr>
        <p:spPr>
          <a:xfrm>
            <a:off x="2565360" y="1366920"/>
            <a:ext cx="103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yǐ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7" descr="http://www.bytmodel.com/images/nfwwcz3ffz2hk4djmfxdcmjufzrw63i/20120716/02551180.jpg"/>
          <p:cNvPicPr/>
          <p:nvPr/>
        </p:nvPicPr>
        <p:blipFill>
          <a:blip r:embed="rId1"/>
          <a:srcRect l="0" t="0" r="0" b="7401"/>
          <a:stretch/>
        </p:blipFill>
        <p:spPr>
          <a:xfrm>
            <a:off x="4095720" y="1244520"/>
            <a:ext cx="362592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6"/>
          <p:cNvSpPr/>
          <p:nvPr/>
        </p:nvSpPr>
        <p:spPr>
          <a:xfrm>
            <a:off x="1738440" y="1865160"/>
            <a:ext cx="253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螃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9"/>
          <p:cNvSpPr/>
          <p:nvPr/>
        </p:nvSpPr>
        <p:spPr>
          <a:xfrm>
            <a:off x="1552320" y="1243080"/>
            <a:ext cx="256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pánɡ xi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http://www.qqmofasi.com/data/attachments/2015/02/10/2_PBweOnjg0jqf5zpNJ5J7_large.jpg"/>
          <p:cNvPicPr/>
          <p:nvPr/>
        </p:nvPicPr>
        <p:blipFill>
          <a:blip r:embed="rId1"/>
          <a:stretch/>
        </p:blipFill>
        <p:spPr>
          <a:xfrm>
            <a:off x="4522680" y="1406520"/>
            <a:ext cx="3549600" cy="23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6"/>
          <p:cNvSpPr/>
          <p:nvPr/>
        </p:nvSpPr>
        <p:spPr>
          <a:xfrm>
            <a:off x="1538280" y="1865160"/>
            <a:ext cx="156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9"/>
          <p:cNvSpPr/>
          <p:nvPr/>
        </p:nvSpPr>
        <p:spPr>
          <a:xfrm>
            <a:off x="1537920" y="124308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c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http://lywb.lyd.com.cn/images/2012-06/19/1340060487484JY6B619C002_b.jpg"/>
          <p:cNvPicPr/>
          <p:nvPr/>
        </p:nvPicPr>
        <p:blipFill>
          <a:blip r:embed="rId1"/>
          <a:stretch/>
        </p:blipFill>
        <p:spPr>
          <a:xfrm>
            <a:off x="3265560" y="1557360"/>
            <a:ext cx="2948040" cy="22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10"/>
          <p:cNvSpPr/>
          <p:nvPr/>
        </p:nvSpPr>
        <p:spPr>
          <a:xfrm>
            <a:off x="944640" y="608040"/>
            <a:ext cx="144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天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地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海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1"/>
          <p:cNvSpPr/>
          <p:nvPr/>
        </p:nvSpPr>
        <p:spPr>
          <a:xfrm>
            <a:off x="2878920" y="10047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白鹤   鸽子   蝴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6"/>
          <p:cNvSpPr/>
          <p:nvPr/>
        </p:nvSpPr>
        <p:spPr>
          <a:xfrm>
            <a:off x="3018600" y="206208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狼  猩猩   羚羊  蚯蚓  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7"/>
          <p:cNvSpPr/>
          <p:nvPr/>
        </p:nvSpPr>
        <p:spPr>
          <a:xfrm>
            <a:off x="2877480" y="3121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海龟    螃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>声  明
 本文件仅用于个人学习、研究或欣赏，以及其他非商业性或非盈利性用途，但同时应遵守著作权法及其他相关法律的规定，不得侵犯本司及相关权利人的合法权利。
 除此以外，将本文件任何内容用于其他用途时，应获得授权，如发现未经授权用于商业或盈利用途将追加侵权者的法律责任。
武汉天成贵龙文化传播有限公司</dc:description>
  <cp:keywords>状元成才路</cp:keywords>
  <dc:language>en-US</dc:language>
  <cp:lastModifiedBy>万润仪器贸易公司</cp:lastModifiedBy>
  <dcterms:modified xsi:type="dcterms:W3CDTF">2020-08-19T00:45:02Z</dcterms:modified>
  <cp:revision>312</cp:revision>
  <dc:subject>状元成才路</dc:subject>
  <dc:title>状元成才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